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95CD-0045-4FFD-9F0B-ED2800C98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C1C1-22D3-4D52-B71F-410C702C0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8E42-939E-411C-9B68-E5D9D6E48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91E1-7930-4F9A-ACDD-C786044A8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9549-0658-461B-95EC-750610BD5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DE8F-531B-4446-AF5F-999C732FE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0571-0DC9-42F4-BC7A-8A86EFD74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8D26-F156-45AF-9E5C-C42894F4F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DDB9-3E26-4A80-BAA8-A713CFC50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9D80-C398-46E7-BF41-B232EA70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8825-F8D4-4108-82FE-8634CC50B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165-2833-4407-B9DD-8BC37A821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43D-F2D3-43C3-9D90-DB5AF22B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86A-3DF8-4DC6-8DB9-9641C8D3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3BB-AA8E-492E-9736-55F4DAEE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A93-1472-472C-8429-51E31DE15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F3E-9917-4CF6-AEA0-F966017F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0C2-5CB7-477B-B5F4-3B5F02B5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DEA-2B45-476C-89EA-FBA3CCB4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0C4F-3939-4262-A324-C6A36450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8F6-2A3D-47BC-88C8-6330555D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351-A8CE-4C5E-8926-34104C6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698-8AD0-498E-81B5-4BCA138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683-14B1-495A-B16C-1CBD627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4174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c89c2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EA95-F5C7-4CD0-932B-3567F33D976A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op_stripe"/>
          <p:cNvPicPr/>
          <p:nvPr/>
        </p:nvPicPr>
        <p:blipFill>
          <a:blip r:embed="rId2"/>
          <a:srcRect l="0" t="0" r="3999" b="0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6657120" y="560520"/>
            <a:ext cx="2116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ffff"/>
                </a:solidFill>
                <a:latin typeface="Verdana"/>
              </a:rPr>
              <a:t>http://www.bized.co.u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5560">
            <a:solidFill>
              <a:srgbClr val="1741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7027200" y="6583320"/>
            <a:ext cx="194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b2b2b2"/>
                </a:solidFill>
                <a:latin typeface="Verdana"/>
              </a:rPr>
              <a:t>Copyright 2007 – Biz/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800" spc="-1" strike="noStrike">
              <a:solidFill>
                <a:srgbClr val="17417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Domin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Key Issu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the environ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labour?</a:t>
            </a:r>
            <a:r>
              <a:rPr b="0" lang="en-GB" sz="2000" spc="-1" strike="noStrike">
                <a:solidFill>
                  <a:srgbClr val="444444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p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conomic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-renewable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mage to cul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13" descr="8096_3952"/>
          <p:cNvPicPr/>
          <p:nvPr/>
        </p:nvPicPr>
        <p:blipFill>
          <a:blip r:embed="rId1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4"/>
          <p:cNvSpPr/>
          <p:nvPr/>
        </p:nvSpPr>
        <p:spPr>
          <a:xfrm>
            <a:off x="4724280" y="4876920"/>
            <a:ext cx="4038840" cy="14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hell and Nike’s activities have come under severe criticism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some quar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Homsel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9" descr="33120_8091"/>
          <p:cNvPicPr/>
          <p:nvPr/>
        </p:nvPicPr>
        <p:blipFill>
          <a:blip r:embed="rId2"/>
          <a:stretch/>
        </p:blipFill>
        <p:spPr>
          <a:xfrm>
            <a:off x="4572000" y="1676520"/>
            <a:ext cx="4114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Other Issues: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6560" y="16761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untabili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Global busines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gap between rich and poor fuels potential terrorist re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thical responsibility of busin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fforts to remove trade barr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304920" y="4724280"/>
            <a:ext cx="38098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re are plenty of people who believe that globalisation is a negative development, protests at the G8 summits, pollution, poverty and concern over GM crops are just some of the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6" descr="86433_1252"/>
          <p:cNvPicPr/>
          <p:nvPr/>
        </p:nvPicPr>
        <p:blipFill>
          <a:blip r:embed="rId1"/>
          <a:stretch/>
        </p:blipFill>
        <p:spPr>
          <a:xfrm>
            <a:off x="228600" y="1735200"/>
            <a:ext cx="4343400" cy="268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7" descr="76198_1128"/>
          <p:cNvPicPr/>
          <p:nvPr/>
        </p:nvPicPr>
        <p:blipFill>
          <a:blip r:embed="rId2"/>
          <a:stretch/>
        </p:blipFill>
        <p:spPr>
          <a:xfrm>
            <a:off x="228600" y="1714680"/>
            <a:ext cx="4343400" cy="270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8" descr="79325_4107"/>
          <p:cNvPicPr/>
          <p:nvPr/>
        </p:nvPicPr>
        <p:blipFill>
          <a:blip r:embed="rId3"/>
          <a:stretch/>
        </p:blipFill>
        <p:spPr>
          <a:xfrm>
            <a:off x="228600" y="1676520"/>
            <a:ext cx="441972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Image of Anti-GM Crop Protest, Long Marsden, England, image 756738-001"/>
          <p:cNvPicPr/>
          <p:nvPr/>
        </p:nvPicPr>
        <p:blipFill>
          <a:blip r:embed="rId4"/>
          <a:stretch/>
        </p:blipFill>
        <p:spPr>
          <a:xfrm>
            <a:off x="228600" y="1670040"/>
            <a:ext cx="44197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0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Verdana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economic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oci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ultural phenomen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movement towards the expansion of economic and social ties between countries through the spread of corporate institutions and the capitalist philosophy that leads to the shrink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f the world in economic ter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063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lobalisat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pic>
        <p:nvPicPr>
          <p:cNvPr id="56" name="Picture 4" descr="$0$"/>
          <p:cNvPicPr/>
          <p:nvPr/>
        </p:nvPicPr>
        <p:blipFill>
          <a:blip r:embed="rId1"/>
          <a:stretch/>
        </p:blipFill>
        <p:spPr>
          <a:xfrm>
            <a:off x="0" y="914400"/>
            <a:ext cx="8763120" cy="5097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7238880" y="4800600"/>
            <a:ext cx="160020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lobalisation could involve all these thing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increasing reliance of economies on each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to be able to buy and sell in any country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pportunities for labour and capital to locate anywhere in the wor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growth of global markets in fi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2209680" y="2057400"/>
            <a:ext cx="1676520" cy="1905120"/>
            <a:chOff x="2209680" y="2057400"/>
            <a:chExt cx="1676520" cy="1905120"/>
          </a:xfrm>
        </p:grpSpPr>
        <p:sp>
          <p:nvSpPr>
            <p:cNvPr id="61" name="Rectangle 5"/>
            <p:cNvSpPr/>
            <p:nvPr/>
          </p:nvSpPr>
          <p:spPr>
            <a:xfrm>
              <a:off x="2209680" y="2057400"/>
              <a:ext cx="16765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Group 11"/>
            <p:cNvGrpSpPr/>
            <p:nvPr/>
          </p:nvGrpSpPr>
          <p:grpSpPr>
            <a:xfrm>
              <a:off x="2209680" y="2057400"/>
              <a:ext cx="1667520" cy="1905120"/>
              <a:chOff x="2209680" y="2057400"/>
              <a:chExt cx="1667520" cy="1905120"/>
            </a:xfrm>
          </p:grpSpPr>
          <p:sp>
            <p:nvSpPr>
              <p:cNvPr id="63" name="Rectangle 6"/>
              <p:cNvSpPr/>
              <p:nvPr/>
            </p:nvSpPr>
            <p:spPr>
              <a:xfrm>
                <a:off x="2209680" y="205740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Group 10"/>
              <p:cNvGrpSpPr/>
              <p:nvPr/>
            </p:nvGrpSpPr>
            <p:grpSpPr>
              <a:xfrm>
                <a:off x="2209680" y="2057400"/>
                <a:ext cx="1667520" cy="1905120"/>
                <a:chOff x="2209680" y="2057400"/>
                <a:chExt cx="1667520" cy="1905120"/>
              </a:xfrm>
            </p:grpSpPr>
            <p:sp>
              <p:nvSpPr>
                <p:cNvPr id="65" name="Rectangle 7"/>
                <p:cNvSpPr/>
                <p:nvPr/>
              </p:nvSpPr>
              <p:spPr>
                <a:xfrm>
                  <a:off x="2209680" y="2057400"/>
                  <a:ext cx="166752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Rectangle 8"/>
                <p:cNvSpPr/>
                <p:nvPr/>
              </p:nvSpPr>
              <p:spPr>
                <a:xfrm>
                  <a:off x="2209680" y="2057400"/>
                  <a:ext cx="1667520" cy="190512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8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7" name="Picture 13" descr="45339_9080"/>
          <p:cNvPicPr/>
          <p:nvPr/>
        </p:nvPicPr>
        <p:blipFill>
          <a:blip r:embed="rId1"/>
          <a:stretch/>
        </p:blipFill>
        <p:spPr>
          <a:xfrm>
            <a:off x="685800" y="1752480"/>
            <a:ext cx="3809880" cy="3405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4"/>
          <p:cNvSpPr/>
          <p:nvPr/>
        </p:nvSpPr>
        <p:spPr>
          <a:xfrm>
            <a:off x="685800" y="5257800"/>
            <a:ext cx="388620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tock Markets are now accessible from anywhere in the worl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edrod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Integration of Economies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Verdana"/>
              </a:rPr>
              <a:t>Made possible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unication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net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rowth of economic cooperation – trading blocs (EU, NAFTA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llapse of ‘communism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vement to free tr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Benefits of Tra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potential for grow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 international economies of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ater employment opportun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3" name="Group 12"/>
          <p:cNvGrpSpPr/>
          <p:nvPr/>
        </p:nvGrpSpPr>
        <p:grpSpPr>
          <a:xfrm>
            <a:off x="4952880" y="4740120"/>
            <a:ext cx="3286080" cy="74880"/>
            <a:chOff x="4952880" y="4740120"/>
            <a:chExt cx="3286080" cy="74880"/>
          </a:xfrm>
        </p:grpSpPr>
        <p:sp>
          <p:nvSpPr>
            <p:cNvPr id="74" name="Rectangle 5"/>
            <p:cNvSpPr/>
            <p:nvPr/>
          </p:nvSpPr>
          <p:spPr>
            <a:xfrm flipV="1">
              <a:off x="4952880" y="4814280"/>
              <a:ext cx="328608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1"/>
            <p:cNvGrpSpPr/>
            <p:nvPr/>
          </p:nvGrpSpPr>
          <p:grpSpPr>
            <a:xfrm>
              <a:off x="4952880" y="4740120"/>
              <a:ext cx="3268800" cy="74880"/>
              <a:chOff x="4952880" y="4740120"/>
              <a:chExt cx="3268800" cy="74880"/>
            </a:xfrm>
          </p:grpSpPr>
          <p:sp>
            <p:nvSpPr>
              <p:cNvPr id="76" name="Rectangle 6"/>
              <p:cNvSpPr/>
              <p:nvPr/>
            </p:nvSpPr>
            <p:spPr>
              <a:xfrm flipV="1">
                <a:off x="4952880" y="48142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0"/>
              <p:cNvGrpSpPr/>
              <p:nvPr/>
            </p:nvGrpSpPr>
            <p:grpSpPr>
              <a:xfrm>
                <a:off x="4952880" y="4740120"/>
                <a:ext cx="3268800" cy="74880"/>
                <a:chOff x="4952880" y="4740120"/>
                <a:chExt cx="3268800" cy="74880"/>
              </a:xfrm>
            </p:grpSpPr>
            <p:sp>
              <p:nvSpPr>
                <p:cNvPr id="78" name="Rectangle 7"/>
                <p:cNvSpPr/>
                <p:nvPr/>
              </p:nvSpPr>
              <p:spPr>
                <a:xfrm flipV="1">
                  <a:off x="4952880" y="4814280"/>
                  <a:ext cx="326880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Rectangle 8"/>
                <p:cNvSpPr/>
                <p:nvPr/>
              </p:nvSpPr>
              <p:spPr>
                <a:xfrm flipV="1">
                  <a:off x="4952880" y="4740120"/>
                  <a:ext cx="3268800" cy="748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0" name="Picture 13" descr="6925_8654"/>
          <p:cNvPicPr/>
          <p:nvPr/>
        </p:nvPicPr>
        <p:blipFill>
          <a:blip r:embed="rId1"/>
          <a:stretch/>
        </p:blipFill>
        <p:spPr>
          <a:xfrm>
            <a:off x="4648320" y="1981080"/>
            <a:ext cx="4190760" cy="3481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4572000" y="5486400"/>
            <a:ext cx="4267080" cy="9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rade has led to massive increases in wealth for many count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opyright: budgetstock, stock.xch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Trade versus Aid?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Disadvantages </a:t>
            </a:r>
            <a:br>
              <a:rPr sz="2400"/>
            </a:b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of tra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 in gap between the rich and the p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minance of global trade by the rich, northern hemisphere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ck of opportunities for the poor to be able to have access to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loitation of workers and gro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13" descr="79528_7870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3492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4648320" y="5105520"/>
            <a:ext cx="4038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w far does trade help children like the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clesio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Multi-national </a:t>
            </a:r>
            <a:br>
              <a:rPr sz="2800"/>
            </a:br>
            <a:r>
              <a:rPr b="0" lang="en-GB" sz="2800" spc="-1" strike="noStrike">
                <a:solidFill>
                  <a:srgbClr val="003366"/>
                </a:solidFill>
                <a:latin typeface="Verdana"/>
              </a:rPr>
              <a:t>or trans-national corporations (MNCs or TNCs)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businesses wit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headquarter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 one country but with business operations in a number of oth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4" descr="From the Ad in Piccadilly Circus, London.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2735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5"/>
          <p:cNvSpPr/>
          <p:nvPr/>
        </p:nvSpPr>
        <p:spPr>
          <a:xfrm>
            <a:off x="533520" y="4952880"/>
            <a:ext cx="4267080" cy="7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o matter where you go in the world, certain businesses will always have a prese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mkeky, 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4174"/>
                </a:solidFill>
                <a:latin typeface="Verdana"/>
              </a:rPr>
              <a:t>Corporate Expansion</a:t>
            </a:r>
            <a:endParaRPr b="0" lang="en-US" sz="4000" spc="-1" strike="noStrike">
              <a:solidFill>
                <a:srgbClr val="17417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8769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c89c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Verdana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panding reven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wering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urcing raw materi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ling key supp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rol of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c89c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lobal economies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38"/>
          <p:cNvGrpSpPr/>
          <p:nvPr/>
        </p:nvGrpSpPr>
        <p:grpSpPr>
          <a:xfrm>
            <a:off x="1752480" y="2895480"/>
            <a:ext cx="304920" cy="1143000"/>
            <a:chOff x="1752480" y="2895480"/>
            <a:chExt cx="304920" cy="1143000"/>
          </a:xfrm>
        </p:grpSpPr>
        <p:sp>
          <p:nvSpPr>
            <p:cNvPr id="93" name="Rectangle 1031"/>
            <p:cNvSpPr/>
            <p:nvPr/>
          </p:nvSpPr>
          <p:spPr>
            <a:xfrm>
              <a:off x="1752480" y="2895480"/>
              <a:ext cx="304920" cy="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037"/>
            <p:cNvGrpSpPr/>
            <p:nvPr/>
          </p:nvGrpSpPr>
          <p:grpSpPr>
            <a:xfrm>
              <a:off x="1752480" y="2895480"/>
              <a:ext cx="303480" cy="1143000"/>
              <a:chOff x="1752480" y="2895480"/>
              <a:chExt cx="303480" cy="1143000"/>
            </a:xfrm>
          </p:grpSpPr>
          <p:sp>
            <p:nvSpPr>
              <p:cNvPr id="95" name="Rectangle 1032"/>
              <p:cNvSpPr/>
              <p:nvPr/>
            </p:nvSpPr>
            <p:spPr>
              <a:xfrm>
                <a:off x="1752480" y="2895480"/>
                <a:ext cx="360" cy="3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1036"/>
              <p:cNvGrpSpPr/>
              <p:nvPr/>
            </p:nvGrpSpPr>
            <p:grpSpPr>
              <a:xfrm>
                <a:off x="1752480" y="2895480"/>
                <a:ext cx="303480" cy="1143000"/>
                <a:chOff x="1752480" y="2895480"/>
                <a:chExt cx="303480" cy="1143000"/>
              </a:xfrm>
            </p:grpSpPr>
            <p:sp>
              <p:nvSpPr>
                <p:cNvPr id="97" name="Rectangle 1033"/>
                <p:cNvSpPr/>
                <p:nvPr/>
              </p:nvSpPr>
              <p:spPr>
                <a:xfrm>
                  <a:off x="1752480" y="2895480"/>
                  <a:ext cx="303480" cy="36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1034"/>
                <p:cNvSpPr/>
                <p:nvPr/>
              </p:nvSpPr>
              <p:spPr>
                <a:xfrm>
                  <a:off x="1752480" y="2895480"/>
                  <a:ext cx="303480" cy="114300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  </a:t>
                  </a:r>
                  <a:r>
                    <a:rPr b="0" lang="en-GB" sz="16500" spc="-1" strike="noStrike">
                      <a:solidFill>
                        <a:srgbClr val="444444"/>
                      </a:solidFill>
                      <a:latin typeface="Verdana"/>
                    </a:rPr>
                    <a:t> </a:t>
                  </a:r>
                  <a:r>
                    <a:rPr b="0" lang="en-GB" sz="600" spc="-1" strike="noStrike">
                      <a:solidFill>
                        <a:srgbClr val="444444"/>
                      </a:solidFill>
                      <a:latin typeface="Verdana"/>
                    </a:rPr>
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9" name="Picture 1035" descr="72238_6062"/>
          <p:cNvPicPr/>
          <p:nvPr/>
        </p:nvPicPr>
        <p:blipFill>
          <a:blip r:embed="rId1"/>
          <a:stretch/>
        </p:blipFill>
        <p:spPr>
          <a:xfrm>
            <a:off x="380880" y="2057400"/>
            <a:ext cx="4496040" cy="2997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39"/>
          <p:cNvSpPr/>
          <p:nvPr/>
        </p:nvSpPr>
        <p:spPr>
          <a:xfrm>
            <a:off x="380880" y="5334120"/>
            <a:ext cx="44960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Controlling supplies may be one reason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for global expa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Copyright: rsvstks, stock.xch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0:55:58Z</dcterms:created>
  <dc:creator>A Ashwin</dc:creator>
  <dc:description/>
  <dc:language>en-US</dc:language>
  <cp:lastModifiedBy>Allison Hopkins</cp:lastModifiedBy>
  <dcterms:modified xsi:type="dcterms:W3CDTF">2012-01-21T18:23:40Z</dcterms:modified>
  <cp:revision>35</cp:revision>
  <dc:subject/>
  <dc:title>###Globalisation - PowerPoint Presentation###</dc:title>
</cp:coreProperties>
</file>